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drama.wav" ContentType="audio/x-wav"/>
  <Override PartName="/ppt/media/image3.png" ContentType="image/png"/>
  <Override PartName="/ppt/media/pluck.wav" ContentType="audio/x-wav"/>
  <Override PartName="/ppt/media/image4.png" ContentType="image/png"/>
  <Override PartName="/ppt/media/image5.png" ContentType="image/png"/>
  <Override PartName="/ppt/media/glasses.wav" ContentType="audio/x-wav"/>
  <Override PartName="/ppt/media/image6.png" ContentType="image/png"/>
  <Override PartName="/ppt/media/image7.png" ContentType="image/png"/>
  <Override PartName="/ppt/media/image8.png" ContentType="image/png"/>
  <Override PartName="/ppt/media/soft.wav" ContentType="audio/x-wav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2C50-C618-48AE-835E-7361F469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32936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BFE7-007A-415E-962E-2828E0CB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2CA67-DB39-42A7-A132-4ACEDE42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C388C-F4B0-44C1-8667-BF92CDD4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99640" y="720720"/>
            <a:ext cx="82789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50CC1-59E7-4A6B-8A8B-63B2253C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9964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1E1EE-30DB-472D-AF72-CB8F7A49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4188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F3177-DFA3-4CF9-ACEA-99429A1B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99640" y="432936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4ED60-9840-46E9-8166-2D37C7DD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99640" y="432936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B81C6-21DA-487F-BBA6-70B4BA34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9964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4188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E81D9-60A4-42CD-B4B7-7ECD10022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698640" y="197928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98000" y="197928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99640" y="432936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698640" y="432936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98000" y="432936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89567-68AC-4570-B98A-421779F3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2A8A4-34F4-448B-BB39-274EBF7C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E533-1ED9-4ACF-8C31-37271BA8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99640" y="197928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15492-8076-4770-880E-63E30240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C2BC2-DD01-4721-9BFF-F78A8639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5172F-5B6D-437D-955D-FCE419F1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57F50-C89F-4EAF-8312-FC9EB9AD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99640" y="720720"/>
            <a:ext cx="82789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5B156-DFA6-4406-9017-8E01C1B8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9964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C76C4-FD4E-421F-97EB-FD6B433D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4188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B39EB-56C9-49B8-937E-EF265C63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99640" y="432936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189D7-33B1-41A8-92FD-A36C0AAB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99640" y="432936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E7EE7-1925-402C-90AB-75D1B2BD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9964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4188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47E17-F701-45A0-B916-DBF454F8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8640" y="197928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8000" y="197928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32936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8640" y="432936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8000" y="432936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C0CB-0C61-4239-A78D-E7DBFAD9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698640" y="197928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98000" y="197928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99640" y="432936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698640" y="432936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98000" y="432936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DD9EE-C84A-434B-87B5-EC9CB004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7226-E31B-4B61-A300-7E17AF50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99640" y="197928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2E18-C39A-4519-97F2-193149E5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63E4-8D39-483F-ADD1-4FC974FD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4607-10ED-42AB-BF56-0B41EA7F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F46D-317F-4511-BA71-4D6BFE40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99640" y="720720"/>
            <a:ext cx="82789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A735-EE92-42BE-9AE4-D73C95F4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9964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057F-2325-40CA-8947-FB78D38C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97928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B39B-FE9E-41E3-9185-4C9F663B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188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84DB-7EFD-4171-9196-6DA4A9AF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99640" y="432936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1093-4DBA-4E10-B3DA-E573C35D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99640" y="432936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19A1-603A-4D98-B445-ADB5FA3C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964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188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332E-26FE-4FF9-A788-5F7692CE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8640" y="197928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8000" y="197928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99640" y="432936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8640" y="432936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8000" y="432936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D2D2-A384-4A07-94F3-28F7006D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5E0E8-7DD0-44B7-BC4E-BD0EC7CC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99640" y="197928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984E5-6D1D-41AA-A9F4-31302711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62352-2FD5-457F-86C7-AFA8E085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8EC40-362A-45C4-9F91-1F52F9AE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AAC24-069D-440D-A000-33D6EFD7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F9DB-1293-4060-AF18-77A9A191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99640" y="720720"/>
            <a:ext cx="82789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C80E2-1C17-423E-A2FB-CE62200B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9964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921B7-0654-48BC-9BBF-697636A3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188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0FE07-4A1E-4B7B-A2E7-4C49476F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99640" y="432936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64524-DD59-4485-9CC3-445FA308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99640" y="432936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E7D97-90E6-4F42-BDEC-2600ABE1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9964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188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824A2-0696-4418-A187-6941A22BD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98640" y="197928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98000" y="197928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99640" y="432936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98640" y="432936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98000" y="432936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5E4D0-41B5-4B0F-A849-C39868E6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8FBC5-0EFC-4FD6-8673-B7E9C743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99640" y="197928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165E1-BDDE-46FA-8E23-9990558A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E49EF-0CBF-4A2A-AD4D-5097733D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A876-8D87-4E30-BE51-B99986D9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3E95A-6DDF-497C-B1EF-33A1B499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24B7B-8801-453D-AFEC-EA0D4307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99640" y="720720"/>
            <a:ext cx="82789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FE898-FDDC-4DE0-AB02-58D0B3C2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9964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1B01A-D0D6-4894-95BB-55F73103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188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DA3EE-CD6C-4BD6-88B1-EC6C57F6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99640" y="432936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DD426-6893-46DD-8D10-72D6516F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99640" y="432936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E4017-B3E0-4C7E-A82D-8E89DFBE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9964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4188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D408C-0E96-40D6-87A0-803DBC65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98640" y="197928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98000" y="197928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99640" y="432936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98640" y="432936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98000" y="432936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8EE75-5EB4-4F90-B053-B012A5AF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58B1F-C553-4A3C-B33C-616411B5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C79D-EC3E-44A8-9A64-B3D93972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99640" y="197928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8ED56-FEC2-4B0D-8907-23F66CA2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30F54-1801-43FF-BD0E-393DB4E5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C163E-2C31-424D-906E-D7FD0EB9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55EA3-A630-4196-B1E2-24B68556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99640" y="720720"/>
            <a:ext cx="82789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00779-D309-49B4-BA59-0A7717AE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9964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F4FD1-4B21-4771-9552-D0F7685C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4188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CF30E-0E7C-4CC2-8C3B-C0CC364A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99640" y="432936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5558F-CFF7-4086-ADB9-134F2C77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99640" y="432936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F9FC7-EC96-48F6-81ED-AA5AF8DB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9964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4188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9696E-C943-48EA-B693-43B90C63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99640" y="720720"/>
            <a:ext cx="82789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F2C6-3FB0-4645-A327-ECFB9D11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98640" y="197928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98000" y="197928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99640" y="432936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98640" y="432936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98000" y="432936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51971-7E00-4372-9E0D-C266D37D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AA850-D8F0-4000-836E-614A0D8F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99640" y="197928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7D9B9-4D68-474C-BDEA-3CC19591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8A6A2-39B5-43BB-8D36-4AC227D7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DEEB1-87A6-4C13-869D-8C6E281F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46A73-A718-4FFC-9327-DAE908BE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99640" y="720720"/>
            <a:ext cx="82789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6E01F-C1B9-4FD9-8F1B-8161CA7A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9964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18B4F-E8B3-4F2F-A19D-05B1C360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4188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887F3-893B-481F-B9F9-DB80F34F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99640" y="432936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BC174-FF4C-46C6-8485-A5E26461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2DE0-4B89-4156-A700-0B89C293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99640" y="432936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5978D-073C-4623-8BC0-2AFA58D4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9964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4188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FE2F7-E1AE-4E43-9A3E-42091F93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98640" y="197928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98000" y="197928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99640" y="432936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698640" y="432936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98000" y="432936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68548-743B-41E9-B547-4EE604AB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A507F-9935-42A8-8D7B-E610C2FB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99640" y="197928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64473-14BB-4C3D-B624-B28A753B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3FE23-AE34-4B31-81B7-14F07808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D9349-6026-482C-956F-0EFEA0F9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7AC66-861E-40B1-9EBB-48D192CE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99640" y="720720"/>
            <a:ext cx="82789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EE7A2-AEFF-49C6-AD41-12FB1E00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9964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636C6-9695-499E-87B1-B27E4380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AE87-5437-4B9D-960E-DBCF97A3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4188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975CF-CA78-49D5-AB4C-EE583A57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99640" y="432936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1A843-1B6C-47C5-870B-0B85EF1D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99640" y="432936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BDDF9-EF49-4354-99DF-98205F15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9964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4188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9B151-A7CC-4657-97CE-409681446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698640" y="197928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98000" y="197928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99640" y="432936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698640" y="432936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98000" y="432936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A42CF-6F31-4C26-8FE1-E6FF3B67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214CC-5522-4D6B-B14C-99D7DE96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99640" y="197928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C6AF6-CF58-499F-BBA0-CC74520F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F0C36-84B4-4400-8CFD-D939AAEF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FA67A-2231-431F-80E3-FD2F8DCA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7F0D8-729D-4B24-B2B8-A0350014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32936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166B-A9B9-42C3-BCB6-F50C1C09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99640" y="720720"/>
            <a:ext cx="82789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D594B-2971-4E5F-AD36-8D36D107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9964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5BFFA-8795-42FB-8EDF-2C74880F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4188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3137F-37F5-43CA-98F2-751F3345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99640" y="432936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E3F24-CA5A-4DAD-B846-A696C6B3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99640" y="432936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2910F-C0DA-4FB3-8FC3-00DD5081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41880" y="197928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9964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41880" y="432936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3C2C9-555E-4C67-B02B-26A549BF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698640" y="197928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98000" y="197928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99640" y="432936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698640" y="432936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98000" y="432936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94C1D-AB8A-4B76-B97A-83008E55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8A2F9-B721-4201-8D29-63EA3164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99640" y="197928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4F94C-1BF9-4698-A722-ECC5D848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43E3B-EE89-44BB-A5DF-A33C3900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041D5-6CF2-4400-819C-0B602D6ED3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99640" y="197928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43E00-656E-47D1-B97B-F9C38503C1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720" y="717480"/>
            <a:ext cx="84535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79640" y="2339640"/>
            <a:ext cx="791352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89128-FCBE-4C9A-9CB0-2F62BFA2105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47640" y="1912680"/>
            <a:ext cx="8669520" cy="4344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3280" y="652752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11360" y="6527520"/>
            <a:ext cx="318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55000" y="652752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012D6-4B86-4BFF-B289-4D8028D15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1388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9280" y="1767960"/>
            <a:ext cx="88138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39640" y="6996240"/>
            <a:ext cx="233208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71840" y="6996240"/>
            <a:ext cx="31752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37440" y="6996240"/>
            <a:ext cx="233208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82FDA-0B16-4198-9099-F0F30B66E62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714C7-2261-4761-92AA-76E3863958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3280" y="6670800"/>
            <a:ext cx="234144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7720" y="6670800"/>
            <a:ext cx="318924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7360" y="6670800"/>
            <a:ext cx="234180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CDBE9-76DA-421E-BC99-A9C235A0EB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20360" y="539280"/>
            <a:ext cx="863604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20720" y="1979640"/>
            <a:ext cx="845496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76440" y="6300360"/>
            <a:ext cx="23428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19640" y="6318000"/>
            <a:ext cx="32176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12080" y="6318000"/>
            <a:ext cx="23428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36452-467F-45ED-9447-F549A70EFC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3280" y="2160360"/>
            <a:ext cx="9066240" cy="459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A35D3-415F-416B-AE8C-A17F4ECA344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7600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9CCFA-1669-4ABF-A868-538E4DE8FF6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luck.wav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ama.wav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teachervision.fen.com/us-presidency/elections/58186.html?detoured=1" TargetMode="External"/><Relationship Id="rId3" Type="http://schemas.openxmlformats.org/officeDocument/2006/relationships/hyperlink" Target="http://www.timeforkids.com/minisite/election-2012" TargetMode="External"/><Relationship Id="rId4" Type="http://schemas.openxmlformats.org/officeDocument/2006/relationships/hyperlink" Target="http://www.nytimes.com/interactive/2012/10/04/us/politics/20120804-denver-presidential-debate-obama-romney.html" TargetMode="External"/><Relationship Id="rId5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soft.wav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glasses.wav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drama.wav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soft.wav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audio" Target="../media/glasses.wav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ama.wav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soft.wav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glasses.wav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600200" y="1828800"/>
            <a:ext cx="662940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1430000" y="1371600"/>
            <a:ext cx="1440" cy="228600"/>
          </a:xfrm>
          <a:prstGeom prst="smileyFace">
            <a:avLst>
              <a:gd name="adj" fmla="val 465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743200" y="2057400"/>
            <a:ext cx="5486400" cy="4343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457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Presidential Issues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413" name=""/>
          <p:cNvSpPr/>
          <p:nvPr/>
        </p:nvSpPr>
        <p:spPr>
          <a:xfrm>
            <a:off x="2743200" y="914400"/>
            <a:ext cx="32004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By: Camer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  <p:sndAc>
      <p:stSnd>
        <p:snd r:embed="rId2" name="plu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1143000" y="228600"/>
            <a:ext cx="73152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ney's Stan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1143000"/>
            <a:ext cx="96012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ake permanent, across-the-board 20 percent cut in marginal tax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2743200"/>
            <a:ext cx="100807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Reduce the corporate tax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3657600"/>
            <a:ext cx="96012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liminate the death 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  <p:sndAc>
      <p:stSnd>
        <p:snd r:embed="rId2" name="dram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371600" y="1371600"/>
            <a:ext cx="6858000" cy="51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Felix Titling"/>
              </a:rPr>
              <a:t>War and national DEFEN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828800" y="1116000"/>
            <a:ext cx="5486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3ff23"/>
                </a:solidFill>
                <a:latin typeface="Arial"/>
              </a:rPr>
              <a:t>Obama's Stan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2428920"/>
            <a:ext cx="7543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He wants to continue to defeat al-Qaeda</a:t>
            </a: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63480" y="2971800"/>
            <a:ext cx="9166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Wants to end America's combat mission in Afghanist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63480" y="3429000"/>
            <a:ext cx="9166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Continue to work with China, Russia and other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828800" y="1371600"/>
            <a:ext cx="5943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743200" y="3795840"/>
            <a:ext cx="52657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56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828800" y="2743200"/>
            <a:ext cx="5227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56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2"/>
              </a:rPr>
              <a:t>http://www.teachervision.fen.com/us-presidency/elections/58186.html?detoured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828800" y="2332080"/>
            <a:ext cx="3330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56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3"/>
              </a:rPr>
              <a:t>http://www.timeforkids.com/minisite/election-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828800" y="3200400"/>
            <a:ext cx="7392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56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4"/>
              </a:rPr>
              <a:t>http://www.nytimes.com/interactive/2012/10/04/us/politics/20120804-denver-presidential-debate-obama-romne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914400" y="2514600"/>
            <a:ext cx="84582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600" spc="-1" strike="noStrike">
                <a:solidFill>
                  <a:srgbClr val="5e11a6"/>
                </a:solidFill>
                <a:latin typeface="Matisse ITC"/>
              </a:rPr>
              <a:t>Economy and Job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2" name="soft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228600" y="797040"/>
            <a:ext cx="82296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ama's Stance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049480"/>
            <a:ext cx="54864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Wants to keep making private jo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Help Americans learn new skills in job fie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  <a:ea typeface="Arial Unicode MS"/>
              </a:rPr>
              <a:t>Increase  exportation of American g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Continue deducting tax from small busines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Enforce Wall Street Reform and Consumer Protection A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  <p:sndAc>
      <p:stSnd>
        <p:snd r:embed="rId2" name="glass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143000" y="685800"/>
            <a:ext cx="5943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mney's Stance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143000" y="25146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Lift federal regulations on busin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Retrain work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Encourage more free tr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Confront China to adhere  to existing  trade agre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Reform environmental regulations to allow for growth in carbon-based energy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Revisit laws that give to much power to labor un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  <p:sndAc>
      <p:stSnd>
        <p:snd r:embed="rId2" name="dram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2286000" y="1749600"/>
            <a:ext cx="6858000" cy="39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600" spc="-1" strike="noStrike">
                <a:solidFill>
                  <a:srgbClr val="ff3366"/>
                </a:solidFill>
                <a:latin typeface="Jokerman"/>
              </a:rPr>
              <a:t>Healthca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2" name="soft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600200" y="914400"/>
            <a:ext cx="5486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ama's Stan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0" y="2265480"/>
          <a:ext cx="13049280" cy="75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65480"/>
                    <a:ext cx="13049280" cy="75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  <p:sndAc>
      <p:stSnd>
        <p:snd r:embed="rId3" name="glass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828800" y="457200"/>
            <a:ext cx="52578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ney's Stan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2286000"/>
            <a:ext cx="845820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Immediately begin work to overturn the Affordable Care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Abolish contraception-access rules provided by the Affordable Care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Believes Supreme Court should overturn Roe v. W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  <p:sndAc>
      <p:stSnd>
        <p:snd r:embed="rId1" name="dram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057400" y="2514600"/>
            <a:ext cx="6629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Curlz MT"/>
              </a:rPr>
              <a:t>Tax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2" name="soft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143000" y="228600"/>
            <a:ext cx="6400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ama's Stanc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" y="1181160"/>
            <a:ext cx="93726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Wants to temporarily extend the Bush-era tax cuts for those who earn less than $250,0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" y="3338640"/>
            <a:ext cx="60246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o pursue enacting the Buffet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4933800"/>
            <a:ext cx="985212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Wants to reform the tax code and close loopholes for millionaires and billionaires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  <p:sndAc>
      <p:stSnd>
        <p:snd r:embed="rId2" name="glass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5:04:46Z</dcterms:created>
  <dc:creator/>
  <dc:description/>
  <dc:language>en-US</dc:language>
  <cp:lastModifiedBy/>
  <cp:revision>1</cp:revision>
  <dc:subject/>
  <dc:title/>
</cp:coreProperties>
</file>